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5120" y="4200840"/>
            <a:ext cx="7238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3532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14560" y="1295280"/>
            <a:ext cx="3532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5120" y="4200840"/>
            <a:ext cx="3532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14560" y="4200840"/>
            <a:ext cx="3532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233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2760" y="1295280"/>
            <a:ext cx="233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00400" y="1295280"/>
            <a:ext cx="233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5120" y="4200840"/>
            <a:ext cx="233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2760" y="4200840"/>
            <a:ext cx="233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00400" y="4200840"/>
            <a:ext cx="233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3532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14560" y="1295280"/>
            <a:ext cx="3532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3532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14560" y="1295280"/>
            <a:ext cx="3532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5120" y="4200840"/>
            <a:ext cx="3532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3532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14560" y="1295280"/>
            <a:ext cx="3532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14560" y="4200840"/>
            <a:ext cx="3532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3532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14560" y="1295280"/>
            <a:ext cx="3532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5120" y="4200840"/>
            <a:ext cx="7238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300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1905120" cy="2895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0" y="2697120"/>
            <a:ext cx="1905120" cy="13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43040" y="1676160"/>
            <a:ext cx="480060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Narrow"/>
              </a:rPr>
              <a:t>Juran’s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 Narrow"/>
              </a:rPr>
              <a:t>Winter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 Narrow"/>
              </a:rPr>
              <a:t>Ski Vacatio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934320" y="5410080"/>
            <a:ext cx="2209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ghann Butler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Kristina Ivanovich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lena Leung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ick Prat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rystal Ball Outpu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d Crystal Ball to curve fit all of our da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lected a Log Normal Distribu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re we had long historical statistics (Alta), we used their supplied 28 year aver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deled snowfall, temperature and wind by month to select the best resor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952880"/>
            <a:ext cx="81536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enario 1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e ranked our preferenc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tal sno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w sno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umber of ru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tal cash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nalized resorts for their weakness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: If a resort was not the “best” for total snow, we penalized it by adding additional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enario 1: Solver Outpu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 is generally the best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ctober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ember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cember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nuary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t. Hoo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ebruary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h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ril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enario 2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-rank our preferenc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tal cash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w sno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umber of ru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tal sno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enario 2: Solver Outpu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ctober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ember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cember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mmo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nuary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t. Hoo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ebruary: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h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ril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mmo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enario 3: Pickup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-rank our preferenc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tal cash 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umber of ru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nowfa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tal sno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cenario 3: Solver Outpu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ctober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mmo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ember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cember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mmo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nuary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t. Hoo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ebruary: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ai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h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mmo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ril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mmo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-36360"/>
            <a:ext cx="9144000" cy="6894360"/>
            <a:chOff x="0" y="-36360"/>
            <a:chExt cx="9144000" cy="689436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0" y="-36360"/>
              <a:ext cx="914400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0" y="-36360"/>
              <a:ext cx="9144000" cy="689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676160"/>
            <a:ext cx="5257800" cy="68580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Narrow"/>
              </a:rPr>
              <a:t>When in Doubt, Go to Alta*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311400" y="571500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* Unless you snow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y Juran needs a ski va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ur probl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rmulation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ur mod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ur solu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hy Juran Needs a Ski Vac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 works har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kiing is better than work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kiing is fu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ur Problem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e able to go skiing once per month for the entire season (October through Apri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ant great snow and condi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y at nice resorts, but keep costs dow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e able to change any and all of the above assump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orm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hoose the best of our 7 resorts each month taking into account skiing conditions and pri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cision variab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ort sel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orm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nput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kiing Conditions (snow, wind, temp etc.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umber of ru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sts ( flights, hotel (or floor), lift tickets 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sonal Prefere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tel or back of pick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sonal preferen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ata Collec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7238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lected 7 ski resorts in the Western United States. We want to ski, not skat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tacted ski resorts directly for weather statistic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Significan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data provided by MesoWest (University of Utah), and Utah Avalanche Cen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a also provided by the Western Regional Climate Center (WRCC)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dia for flight pricing, lodging at resor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ur Mode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6905880" cy="2324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678168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ore Mode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6581520" cy="1743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71880" y="4114800"/>
            <a:ext cx="697212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91320" y="228600"/>
            <a:ext cx="30193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23:20:52Z</dcterms:created>
  <dc:creator>D. Kristina Ivanovick</dc:creator>
  <dc:description/>
  <dc:language>en-US</dc:language>
  <cp:lastModifiedBy>Stern School of Business</cp:lastModifiedBy>
  <dcterms:modified xsi:type="dcterms:W3CDTF">2007-04-28T16:36:56Z</dcterms:modified>
  <cp:revision>60</cp:revision>
  <dc:subject/>
  <dc:title>Juran’s Winter Vacation</dc:title>
</cp:coreProperties>
</file>